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1CDC-0486-46B4-8883-78E5D3E4A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738F-90EF-437C-A739-B2E99662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368F-03FA-4C0A-B3FF-67A4651AF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0279-51E3-4602-964D-58F9A04AD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2B73-1123-4351-A5B1-B83DC1D4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1A8B-2F4D-48A1-9123-B4205B15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EFC7-7D1B-4A4D-9EE1-265339E8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335C-0970-4C42-881E-4B97BB1E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D196-FD46-4B47-8AC9-BFFCE758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5B81-FBC8-47D7-A265-71E5E35C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0AD5-9D11-4962-A87B-7DB7BA94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7BF8-2F8C-4E04-9FF4-410C44B6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333399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A4D1-A1CD-4A65-9B60-C045B0710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awaiipictures.com/pictures/index/module/media/category/gallery%7Crainbows/pId/102/id/471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hawaiipictures.com/pictures/index/module/media/category/gallery%7Cbeaches/start/0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hawaiiactivities.com/us/hawaii/oahu/sg/1140/ag/6241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333399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32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Monotype Corsiva"/>
              </a:rPr>
              <a:t>My Dream Tropical Vaca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By: Ashley Nix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333399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523880"/>
            <a:ext cx="82296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333399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The location of Hawaii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    is soooo amazing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    especially across the  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    big blue, because I do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    like for a long time and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    very far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Search Hawaii Real Estate and Homes Here!"/>
          <p:cNvPicPr/>
          <p:nvPr/>
        </p:nvPicPr>
        <p:blipFill>
          <a:blip r:embed="rId1"/>
          <a:stretch/>
        </p:blipFill>
        <p:spPr>
          <a:xfrm>
            <a:off x="533520" y="1752480"/>
            <a:ext cx="41148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333399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The beaches in Hawaii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are so beautiful and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very peaceful to me. I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just want sit there and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glaze into the water.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The water has a very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beautiful color and the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sand does also!!!!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Mountain Pictur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676520"/>
            <a:ext cx="44956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333399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4" marL="1748520" indent="-1940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Monotype Corsiv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                                           </a:t>
            </a:r>
            <a:r>
              <a:rPr b="1" lang="en-US" sz="2500" spc="-1" strike="noStrike">
                <a:solidFill>
                  <a:srgbClr val="000000"/>
                </a:solidFill>
                <a:latin typeface="Monotype Corsiva"/>
              </a:rPr>
              <a:t>Under the warm Hawaiian sun, with </a:t>
            </a:r>
            <a:r>
              <a:rPr b="1" lang="en-US" sz="25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Monotype Corsiva"/>
              </a:rPr>
              <a:t>           the tropical breeze on your face and a   </a:t>
            </a:r>
            <a:r>
              <a:rPr b="1" lang="en-US" sz="25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Monotype Corsiva"/>
              </a:rPr>
              <a:t>           picture perfect landscape in front of you, </a:t>
            </a:r>
            <a:r>
              <a:rPr b="1" lang="en-US" sz="25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Monotype Corsiva"/>
              </a:rPr>
              <a:t>           tour some of the best Hawaii spots by </a:t>
            </a:r>
            <a:r>
              <a:rPr b="1" lang="en-US" sz="25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Monotype Corsiva"/>
              </a:rPr>
              <a:t>           bicycle! From the slopes of Mount </a:t>
            </a:r>
            <a:r>
              <a:rPr b="1" lang="en-US" sz="25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Monotype Corsiva"/>
              </a:rPr>
              <a:t>           Haleakala, to the rugged terrain of the </a:t>
            </a:r>
            <a:r>
              <a:rPr b="1" lang="en-US" sz="25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Monotype Corsiva"/>
              </a:rPr>
              <a:t>           Kilauea Volcano or the cool and verdant </a:t>
            </a:r>
            <a:r>
              <a:rPr b="1" lang="en-US" sz="25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Monotype Corsiva"/>
              </a:rPr>
              <a:t>           scenery of Oahu's Tantalus, these tours  </a:t>
            </a:r>
            <a:r>
              <a:rPr b="1" lang="en-US" sz="25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Monotype Corsiva"/>
              </a:rPr>
              <a:t>           give you the opportunity to experienced </a:t>
            </a:r>
            <a:r>
              <a:rPr b="1" lang="en-US" sz="25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Monotype Corsiva"/>
              </a:rPr>
              <a:t>          the fun and excitement of bicycling, all </a:t>
            </a:r>
            <a:r>
              <a:rPr b="1" lang="en-US" sz="25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Monotype Corsiva"/>
              </a:rPr>
              <a:t>          the while enjoying a beautiful day in </a:t>
            </a:r>
            <a:r>
              <a:rPr b="1" lang="en-US" sz="25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Monotype Corsiva"/>
              </a:rPr>
              <a:t>          Hawaii’s out doors    </a:t>
            </a:r>
            <a:r>
              <a:rPr b="1" lang="en-US" sz="25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Hawaii Bike Tour - Oahu Mountain Bike Adven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752480"/>
            <a:ext cx="37339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333399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The weather in Hawaii is always nice and hot most of the time. My favorite season is summer, so I like it hot all the time. I really don’t like being cold. That’s one of the reason why I like Hawaii so mu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6:16:44Z</dcterms:created>
  <dc:creator>768984</dc:creator>
  <dc:description/>
  <dc:language>en-US</dc:language>
  <cp:lastModifiedBy>768984</cp:lastModifiedBy>
  <dcterms:modified xsi:type="dcterms:W3CDTF">2009-01-23T17:27:39Z</dcterms:modified>
  <cp:revision>2</cp:revision>
  <dc:subject/>
  <dc:title>My Dream Tropical Vacation</dc:title>
</cp:coreProperties>
</file>